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61D-BF29-4331-BD09-F3C25D8E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F6B-98CD-44E9-A071-AEEECAB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878-252B-4E3E-B8D6-3458ADF7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7FE-A64B-4A34-BABE-DE4F25F8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52-3F41-4CBB-BB69-DA70A9FD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F66-D885-464F-94D3-3253E5D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5B1-2525-4FF9-91E4-8E3A24B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99C-728E-4AC5-B042-5E55EC13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8EF-1176-4503-ABF2-9E9132BF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1E5-9A36-4F96-99FF-C69AE1E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49F-151D-4AD2-9587-595648A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052-EBC6-423D-BF93-6E022A1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8FBA-F527-4EF6-87C0-6C95E9A2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coala186ev@yahoo.com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Magnolia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- observa</a:t>
            </a: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ție fenologică 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60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Octombrie</a:t>
            </a:r>
            <a:r>
              <a:rPr b="0" lang="ro-RO" sz="3200" spc="-1" strike="noStrike">
                <a:solidFill>
                  <a:srgbClr val="66ffff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4040"/>
            <a:ext cx="8458200" cy="915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ŞCOALA CU CLS. I-VIII NR. 186 “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NA VĂCĂRESC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 BUCUREŞ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. Stanislas Cihoschi, nr. 15, sect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n/fax: 021-3163630, e-mail: </a:t>
            </a:r>
            <a:r>
              <a:rPr b="0" lang="it-IT" sz="11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scoala186ev@yahoo.com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ro-R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ite : www.scoala186.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90720" y="228600"/>
            <a:ext cx="799920" cy="1028880"/>
            <a:chOff x="990720" y="228600"/>
            <a:chExt cx="799920" cy="1028880"/>
          </a:xfrm>
        </p:grpSpPr>
        <p:graphicFrame>
          <p:nvGraphicFramePr>
            <p:cNvPr id="47" name=""/>
            <p:cNvGraphicFramePr/>
            <p:nvPr/>
          </p:nvGraphicFramePr>
          <p:xfrm>
            <a:off x="1057320" y="297720"/>
            <a:ext cx="663480" cy="89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57320" y="297720"/>
                      <a:ext cx="66348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062360" y="307080"/>
              <a:ext cx="644400" cy="887400"/>
            </a:xfrm>
            <a:prstGeom prst="ellipse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990720" y="228600"/>
              <a:ext cx="799920" cy="1028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55673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Elena Văcărescu-poetă română de limbă franceză; "Ambasadoarea sufletului românesc în Franţa"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990720" y="1371600"/>
            <a:ext cx="723888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Proiect Comenius Virtual 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bservație: l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mbrie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actorilor de mediu faţă de luna septemb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bilirea anotimpului pe baza unor informaţii de astr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lorilor şi fructelor faţă de luna septemb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iza comparativă a frunzelor (numă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bilirea factorilor de mediu ce cauzează căderea frunz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lizarea de fotografii suge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1. Stabilire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ului în care s-au modificat factorii de mediu temperatură, precipitaţii, lumină, viteza vânt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bilirea anotimpului prezent pe baza modificării condiţiilor de mediu şi pe baza unor cunoştiinţe de astr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rea culorii frunzelor, a diferenţelor faţă de luna anterioară precum şi a posibilor factori de mediu cau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servarea unor modificări ale fructelor şi florilor în comparaţie cu luna anterio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409920" cy="454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za numărului de frunze de pe o creangă studiată şi compararea cu luna anterio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27680" y="2666880"/>
            <a:ext cx="42163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2860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8762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alizarea de fotografii suges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4514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28:04Z</dcterms:created>
  <dc:creator>Felix</dc:creator>
  <dc:description/>
  <dc:language>en-US</dc:language>
  <cp:lastModifiedBy>Computer 5</cp:lastModifiedBy>
  <dcterms:modified xsi:type="dcterms:W3CDTF">2010-12-07T18:27:40Z</dcterms:modified>
  <cp:revision>7</cp:revision>
  <dc:subject/>
  <dc:title>Slide 1</dc:title>
</cp:coreProperties>
</file>